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dt" idx="3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ftr" idx="3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 type="sldNum" idx="3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E759E2-B01B-4824-9A79-E59EF1F4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1A1B5B-9EF2-4C1D-8D0A-79210680A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0A9F22-43F3-4BAB-9AFC-7A6F07241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3E7672-6BEE-4B49-B559-EFBC66DF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8C4584-B95D-410E-B873-58EEFB77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D85BAD-1A62-4020-9C90-E85B292EA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889E0-840E-4565-B0A2-6563B076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7BF5-C91A-43B9-9E36-8CEB569C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A4B63-381D-44E5-AAB1-EB4AA9BC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5D81-CF33-4167-AB54-B30844FF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C9B5D-1F6D-419B-BCC6-EDE42D86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658D1-7719-49F6-86CB-11C6EDC4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D2C7-3366-40C1-91C8-F7EE544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96345-8649-4293-B1B6-64F72E0F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B2C65-3D23-4E41-B382-7B02525E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F6816-536A-49DD-ABE2-DEB41AF1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8CA33-FC1D-4432-828E-F70FE5A3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5474-2C22-4BAE-8606-EA9A3975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46D7D-2090-4FE6-9258-CE40BFE7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F8739-9E68-4D7A-BCD3-7A3BFBE8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9CDE6-B5EC-4765-93C5-9A401362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BF444-FB1A-418B-AE7C-17E0BCC8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608C6-7DD9-4649-8D56-A19CA716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6AE29-BE96-4835-88C7-D00E0F13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CC324-B00B-4D32-BC72-E55A5A46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4DD75-CC5B-409F-BC32-1ADA651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3820B-1951-4F60-A35D-ED368DE1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90E26-D7B3-4B14-972B-C25CA648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8846A-E468-45EE-82D0-46D98448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4E1DA-2A20-482B-9A11-A2E2B0CB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82F96-34C0-45DE-9911-ED365C2C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A939D-9868-4BF7-968D-246ACCAB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2B61A-3A18-43CA-93DE-769EA269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2BD29-1DE1-49E7-80BF-8EDFE2E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F6255-C71F-4EBE-ADD6-B001127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341EC-33AC-46EE-898F-5DEBE44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97F6E-68F7-49D7-A7E1-31DCF157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92124-1A14-4977-B591-1AC208B9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197AD-5B00-4332-A2BC-69B1FCA6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AC94E-5EF1-465A-A17C-12BD8190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02C9B-2952-45CD-AC7A-01F0A032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709E4-4E93-4E05-B474-AEDEF0CC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D9546-F5D2-46A3-BA40-690C49C7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74F3D-DDA2-4B2D-A8F2-533BD0D1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5644C-0E60-47FE-B0AF-98C04CB1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EBDE8-2861-447F-A1F4-0AF9509D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291F9-F586-44D0-9AF3-38D6AA5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6CBAD-670C-4B2F-8F0E-53D6223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39D78-6EAA-4B36-9CD3-466341E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91934-6730-4A12-8A16-1827AF77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BDBFC-4263-4710-936A-3D32F07D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200-C0AF-48C0-994A-1673AC5B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78E-2A19-4B36-822E-73F8064D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90A-FF86-4F0C-91BB-C6CDD7D3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853-FCD0-4AA1-92D0-16893C2A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6A4-4307-42B6-A614-70ED7BA2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384-14AD-46A9-A142-62E93744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A51-15AC-4BA1-AE34-790AF994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D16-689D-462B-82F7-6B371840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BB1-E956-497A-966D-512505A7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AF8-07FA-49F4-8A7E-31CFE82F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749-DBA3-4059-997C-B987D17B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A40-ACD0-4ED4-B21D-53C86F49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5DB0-6B6B-409C-B16A-A33E3011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9722-85FF-405C-81B3-CF96906A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EDD8-0AE5-4FED-9FC1-8195633A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6393-B02D-4C11-BD10-EFF44FD6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345E-406C-4ADB-B62C-E9E9AD68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81E1-71EB-4A0F-8CE5-95DCD502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5C72-2A4A-4912-98DE-7E325597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814F-6484-4362-B714-01B61BA8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F78-FC0F-4353-8D95-6D54477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B9AD-B9E5-41D3-818B-99FCD8DF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0AC4-7E2C-4BB5-93FE-97713016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B31C-B5D3-41BC-9A0D-82C47A61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9C86-EAE9-486A-93D4-1FAA640E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5FAE-885D-4A76-BFE7-980E19C5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F399-6CC0-4C6D-B8D6-AFD7F171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5629-CB2D-406C-8257-1EEEAF96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481A-A657-4B25-B6C9-DAF2BDD9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10D8-58E0-411A-BFDE-2EBC324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B3F8-D856-4CCE-8A5C-602A8E5F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5D18-DB5A-464C-BE10-E04C7C34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F866E-35DE-4870-B43F-0EAE399F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B30E-18BA-402E-896E-3238CF1A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B191-4EBB-4CDD-9796-EA0544EE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665A-C119-48A3-867D-7C335DAF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545E-D9E5-4B04-9273-1BD15574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99AA-146B-4BF5-B527-C334A988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1014-C7CC-4B03-9694-C47A0C36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1DD2A-8877-4659-B6C8-EDE5CD16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8E283-5228-4014-954A-A0408533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5186-8A7C-4F98-B276-BD89919E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57E5A-9860-44D3-84B5-1F91669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8087-D356-44A5-94BC-2F195DF1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B03C-A374-45D5-A0FF-95EF660F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789C-D352-474A-B137-EAAA5D9A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D575-6501-4095-8277-ABBFD7FC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3D967-5AD8-44F7-8A21-518BB0D8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F43E7-40CB-44A5-8F2A-9E0DC9C7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4D80-4A5D-4BC7-8BB4-344DE5F8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6EDF7-970F-4C44-810D-A4A9A469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576F-51BB-4F1F-A207-0490B023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6920-AF53-4D71-BE6C-9755FC5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B21C-DC77-4B34-BEF3-727DEC77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195E-0D37-41D5-A36F-73A048A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148D-AFC0-4EF9-812C-BEEE13A1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EFA63-ABE1-4508-9954-106550AC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79C3-C6CA-4835-961A-D00259EE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23DA-2ADC-4894-A9E4-41ED1F33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0E097-EF29-4D6B-AA05-0F9A84B3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C500E-3845-43AA-92B7-B32999CE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73901-0FA7-42A2-A2C7-F36B1F76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52708-776C-4686-8C7E-16347CD4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6CCB2-07B8-4281-B769-7522E295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D8D36-C256-4784-B70D-FD81A93B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3490-FA39-41E4-B56F-91ABCD29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2805E-DA21-4CEC-9F6C-EE48538C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B492D-A3E6-4F46-9E82-3F105DF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2D309-5FCD-4604-9A50-7406B214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75D1A-2503-4961-9FB7-DCC1ACD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B4F00-D84F-45FD-8C15-702EF51C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1CC22-E1EF-462D-B229-09FC87CF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8EBC3-7425-4D2B-8AB2-FF6594A3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AC755-740C-4E55-934F-97510528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C0FAB-21D1-470F-8402-C88F6EAA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49F2734F-6954-4040-82C7-8F1C4C9772D8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0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0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E205C33B-7E6D-49DE-8371-EE7C8A17387C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8974-E18A-4298-BCBE-B26825099A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7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7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6E233348-C330-4FF8-97BE-B34584D0A02D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9751-F8D5-4BC0-95B7-5CA715520A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4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74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65115BE4-E534-4405-9380-1084AFD13B34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8E29-8E57-4797-8B06-E0FE2D606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2720"/>
            <a:chOff x="-3600" y="2438280"/>
            <a:chExt cx="9147240" cy="106272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8960"/>
              <a:ext cx="9146880" cy="1022040"/>
              <a:chOff x="-3240" y="2478960"/>
              <a:chExt cx="9146880" cy="102204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95720" y="-1582920"/>
                <a:ext cx="977040" cy="9118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77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9664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8320" y="2797560"/>
                <a:ext cx="976680" cy="4042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101000" y="274320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53440" y="2689200"/>
                <a:ext cx="977040" cy="574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9120" y="2756160"/>
                <a:ext cx="989640" cy="4996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81960" y="2635560"/>
                <a:ext cx="976680" cy="6681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600360" y="263376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54920" y="2789640"/>
                <a:ext cx="976680" cy="4046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05800" y="273528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611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9960" y="2723760"/>
                <a:ext cx="989640" cy="501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7071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2552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904320" y="2780640"/>
                <a:ext cx="977040" cy="40464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8960"/>
                <a:ext cx="461520" cy="9784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8480"/>
                  <a:gd name="textAreaBottom" fmla="*/ 978480 h 9784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1105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8120" y="2723760"/>
                <a:ext cx="989640" cy="5014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45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191400"/>
              <a:ext cx="9144360" cy="29592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685800" y="6019920"/>
            <a:ext cx="1066680" cy="59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934320" y="62485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3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3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131A7F28-E4A3-4D33-960B-CD61925AFCF1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2B9B-3FD9-40C5-8CAB-B3EE1D7EC5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9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C9584EF6-4E34-4AD8-98BF-225C17CE84AE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98C6-98C9-4173-A40C-4C07AB3CF5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6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6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F072960E-026C-4384-8091-89816962CC80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A989-7A80-4EE9-998A-1FD7F06DD3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3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33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30CDEBC7-96C9-4B5A-8FFD-A3CACD2CAE3E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152E-D1A4-44A6-8173-AD894177CD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0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0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34B998D1-59DF-408C-B15D-E975BCFEB328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6E30-77FD-4B40-9422-03F68A580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7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7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0DD17F7C-C85B-4978-B6AC-50755B05456F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8E25-C87F-4784-8D6B-632C63BEA8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3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53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DF6BC220-D336-448B-A339-D92464BBE670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7661-F97A-4FCC-B9E6-78E6EB1E91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166760" y="38858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aur"/>
              </a:rPr>
              <a:t>Family Economics &amp; Financial Education</a:t>
            </a:r>
            <a:endParaRPr b="0" lang="en-US" sz="2600" spc="-1" strike="noStrike">
              <a:solidFill>
                <a:srgbClr val="000000"/>
              </a:solidFill>
              <a:latin typeface="Centaur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aur"/>
              </a:rPr>
              <a:t>Take Charge of Your Finances </a:t>
            </a:r>
            <a:endParaRPr b="0" lang="en-US" sz="26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123720" y="3428640"/>
            <a:ext cx="403884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Late or Missed Payme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123720" y="4038480"/>
            <a:ext cx="4038840" cy="19051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am’s Electronic Worl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Past du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tore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Occasional late payment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counts Summa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67" name="TextBox 8"/>
          <p:cNvSpPr/>
          <p:nvPr/>
        </p:nvSpPr>
        <p:spPr>
          <a:xfrm>
            <a:off x="3200400" y="1600200"/>
            <a:ext cx="3505320" cy="13136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DOES ISAB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HAVE ANY LATE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MISSED PAY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ON ACCOUNT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5411880" y="1981080"/>
            <a:ext cx="1217520" cy="990720"/>
          </a:xfrm>
          <a:prstGeom prst="rect">
            <a:avLst/>
          </a:prstGeom>
          <a:ln w="0">
            <a:noFill/>
          </a:ln>
        </p:spPr>
      </p:pic>
      <p:sp>
        <p:nvSpPr>
          <p:cNvPr id="869" name="Straight Connector 12"/>
          <p:cNvSpPr/>
          <p:nvPr/>
        </p:nvSpPr>
        <p:spPr>
          <a:xfrm>
            <a:off x="3124080" y="4038480"/>
            <a:ext cx="4038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066680" y="1294920"/>
            <a:ext cx="3430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Public Record Item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1066680" y="1904760"/>
            <a:ext cx="34308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ccounts turned over to collection agenci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ublic record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ankruptcy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ax lie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Legal suit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oreclosur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66084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Public Record Item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025600" y="2174760"/>
            <a:ext cx="3660840" cy="395136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ity of Anywhere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n Collectio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4" name="Title 3"/>
          <p:cNvSpPr/>
          <p:nvPr/>
        </p:nvSpPr>
        <p:spPr>
          <a:xfrm>
            <a:off x="914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ublic record items related to cred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Box 10"/>
          <p:cNvSpPr/>
          <p:nvPr/>
        </p:nvSpPr>
        <p:spPr>
          <a:xfrm>
            <a:off x="1066680" y="4724280"/>
            <a:ext cx="3505320" cy="192276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DENTIF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UBLIC RECORD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N ISABELL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581280" y="5504040"/>
            <a:ext cx="914400" cy="744480"/>
          </a:xfrm>
          <a:prstGeom prst="rect">
            <a:avLst/>
          </a:prstGeom>
          <a:ln w="0">
            <a:noFill/>
          </a:ln>
        </p:spPr>
      </p:pic>
      <p:sp>
        <p:nvSpPr>
          <p:cNvPr id="877" name="Straight Connector 13"/>
          <p:cNvSpPr/>
          <p:nvPr/>
        </p:nvSpPr>
        <p:spPr>
          <a:xfrm>
            <a:off x="5029200" y="2209680"/>
            <a:ext cx="365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Inquiri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quests for an individual’s credit repor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mpleted by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surance agen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otential credit compan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inancial institut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andlord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otential employers, etc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5334120" y="4495680"/>
            <a:ext cx="3504960" cy="1557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NQUI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OES IS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AV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ER RE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545240" y="4800600"/>
            <a:ext cx="1217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Inquiri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1295280" y="1523880"/>
          <a:ext cx="7696440" cy="4754520"/>
        </p:xfrm>
        <a:graphic>
          <a:graphicData uri="http://schemas.openxmlformats.org/drawingml/2006/table">
            <a:tbl>
              <a:tblPr/>
              <a:tblGrid>
                <a:gridCol w="2041560"/>
                <a:gridCol w="3089520"/>
                <a:gridCol w="25653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Not all credit inquiries are the sam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ype of inqui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ft che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ard che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Do they impact your credit scor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Not usu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dividuals checking their credit repo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edit card companies pre-approving individu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e-employment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ermission given by the individual when seeking cred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edit c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utomobile l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su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grpSp>
        <p:nvGrpSpPr>
          <p:cNvPr id="884" name="TextBox 10"/>
          <p:cNvGrpSpPr/>
          <p:nvPr/>
        </p:nvGrpSpPr>
        <p:grpSpPr>
          <a:xfrm>
            <a:off x="1238400" y="5888160"/>
            <a:ext cx="7808760" cy="698040"/>
            <a:chOff x="1238400" y="5888160"/>
            <a:chExt cx="7808760" cy="698040"/>
          </a:xfrm>
        </p:grpSpPr>
        <p:pic>
          <p:nvPicPr>
            <p:cNvPr id="885" name="TextBox 10" descr=""/>
            <p:cNvPicPr/>
            <p:nvPr/>
          </p:nvPicPr>
          <p:blipFill>
            <a:blip r:embed="rId1"/>
            <a:stretch/>
          </p:blipFill>
          <p:spPr>
            <a:xfrm>
              <a:off x="1238400" y="5888160"/>
              <a:ext cx="7808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295280" y="5943600"/>
              <a:ext cx="769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aur"/>
                </a:rPr>
                <a:t>Individuals should avoid too many hard credit checks at one time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sabella’s Repor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206360" y="1676520"/>
          <a:ext cx="7696440" cy="2468520"/>
        </p:xfrm>
        <a:graphic>
          <a:graphicData uri="http://schemas.openxmlformats.org/drawingml/2006/table">
            <a:tbl>
              <a:tblPr/>
              <a:tblGrid>
                <a:gridCol w="2041560"/>
                <a:gridCol w="3089520"/>
                <a:gridCol w="25653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Inqui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ype of inqui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ft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ard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 Very Big 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Need More Cred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Keeping You Insu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he Dream Sales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hop ‘Til You Dr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Medical Information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90" name="Content Placeholder 3" descr=""/>
          <p:cNvPicPr/>
          <p:nvPr/>
        </p:nvPicPr>
        <p:blipFill>
          <a:blip r:embed="rId1"/>
          <a:stretch/>
        </p:blipFill>
        <p:spPr>
          <a:xfrm>
            <a:off x="1189080" y="1657440"/>
            <a:ext cx="7808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Equal Credit Opportunity 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06000" y="1676520"/>
            <a:ext cx="740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hibits credit discrimination on the basis of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rital statu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Gender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grpSp>
        <p:nvGrpSpPr>
          <p:cNvPr id="893" name="Rectangle 9"/>
          <p:cNvGrpSpPr/>
          <p:nvPr/>
        </p:nvGrpSpPr>
        <p:grpSpPr>
          <a:xfrm>
            <a:off x="5443560" y="2571840"/>
            <a:ext cx="3505320" cy="3103920"/>
            <a:chOff x="5443560" y="2571840"/>
            <a:chExt cx="3505320" cy="3103920"/>
          </a:xfrm>
        </p:grpSpPr>
        <p:pic>
          <p:nvPicPr>
            <p:cNvPr id="894" name="Rectangle 9" descr=""/>
            <p:cNvPicPr/>
            <p:nvPr/>
          </p:nvPicPr>
          <p:blipFill>
            <a:blip r:embed="rId1"/>
            <a:stretch/>
          </p:blipFill>
          <p:spPr>
            <a:xfrm>
              <a:off x="5443560" y="2571840"/>
              <a:ext cx="350532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562720" y="2655720"/>
              <a:ext cx="3200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aur"/>
                </a:rPr>
                <a:t>Creditors may ask for this information (except religion) in certain situations, but may not use it to discriminate when deciding whether to grant you cr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Scor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1143000" y="1494000"/>
            <a:ext cx="7620120" cy="548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thematical tool created to help a lender evaluate the risk associated with lending a consumer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ased upon information in the credit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t a particular point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umeric “grade” of a consumer’s financial reli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ed by lenders to determine a consumer’s risk of defaulting on a lo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73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Scor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36720" y="2362320"/>
            <a:ext cx="493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ost common scoring system is FICO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scores range from 300-850, with 850 being the best score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0" name="TextBox 4"/>
          <p:cNvSpPr/>
          <p:nvPr/>
        </p:nvSpPr>
        <p:spPr>
          <a:xfrm>
            <a:off x="6095880" y="2895480"/>
            <a:ext cx="274320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ABELLA’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620120" y="2971800"/>
            <a:ext cx="1217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Score Imp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1523880" y="1676520"/>
          <a:ext cx="7010640" cy="3022560"/>
        </p:xfrm>
        <a:graphic>
          <a:graphicData uri="http://schemas.openxmlformats.org/drawingml/2006/table">
            <a:tbl>
              <a:tblPr/>
              <a:tblGrid>
                <a:gridCol w="1752840"/>
                <a:gridCol w="1755720"/>
                <a:gridCol w="1755720"/>
                <a:gridCol w="1746360"/>
              </a:tblGrid>
              <a:tr h="7606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THIS IS BASED UPON A 30 YEAR FIXED MORTGAGE RATE FOR A $300,000 L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solidFill>
                      <a:srgbClr val="e1e1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FICO 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Interest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Monthly Pa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30 Year 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5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1,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643,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2,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736,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5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9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9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4" name="TextBox 4"/>
          <p:cNvSpPr/>
          <p:nvPr/>
        </p:nvSpPr>
        <p:spPr>
          <a:xfrm>
            <a:off x="1600200" y="4952880"/>
            <a:ext cx="6934320" cy="947160"/>
          </a:xfrm>
          <a:prstGeom prst="rect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aur"/>
              </a:rPr>
              <a:t>$256,680 saved over the lifetime of this loan because of a good credit sco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Report Detectiv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06000" y="1676160"/>
            <a:ext cx="4660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2"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eet Isabella, your new client: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bout to graduate from colle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 extreme deb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ncerned about finding a job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oesn’t understand her credit repor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20" name="Picture 3" descr="C:\Documents and Settings\Nicole Chinadle\Local Settings\Temporary Internet Files\Content.IE5\ZCAAAMQ4\MPj04395170000[1].jpg"/>
          <p:cNvPicPr/>
          <p:nvPr/>
        </p:nvPicPr>
        <p:blipFill>
          <a:blip r:embed="rId1"/>
          <a:stretch/>
        </p:blipFill>
        <p:spPr>
          <a:xfrm>
            <a:off x="5919840" y="1981080"/>
            <a:ext cx="2814480" cy="166392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1295280" y="4343400"/>
            <a:ext cx="7467840" cy="192276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YOUR 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aur"/>
              </a:rPr>
              <a:t>Help Isabella understand her credit report, identif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aur"/>
              </a:rPr>
              <a:t>what she did to get into this situation, and dec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aur"/>
              </a:rPr>
              <a:t>what  she can do to improve her credit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7162920" y="4648320"/>
            <a:ext cx="15238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How Credit Scores are Determined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06" name="Content Placeholder 3" descr=""/>
          <p:cNvPicPr/>
          <p:nvPr/>
        </p:nvPicPr>
        <p:blipFill>
          <a:blip r:embed="rId1"/>
          <a:stretch/>
        </p:blipFill>
        <p:spPr>
          <a:xfrm>
            <a:off x="1139760" y="1822320"/>
            <a:ext cx="7858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aymen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timely manner in which a consumer did or did not repay deb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everal types of credit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ate or missed payme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ublic records and collection item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09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aymen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168520" y="1676160"/>
            <a:ext cx="3809880" cy="464796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und in status colum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ayment histo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am’s Electronic World is past due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City of Anywhere is in collection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hop ‘Til You Drop has occasional late payment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Love to Read was closed and never late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he Free Money Credit Card is paid on time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score impac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oo many late account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12120" indent="-312120">
              <a:spcBef>
                <a:spcPts val="4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12" name="TextBox 4"/>
          <p:cNvSpPr/>
          <p:nvPr/>
        </p:nvSpPr>
        <p:spPr>
          <a:xfrm>
            <a:off x="1066680" y="1676520"/>
            <a:ext cx="3733920" cy="82548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S ISABELL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AYMENT HIST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962520" y="1828800"/>
            <a:ext cx="655560" cy="533520"/>
          </a:xfrm>
          <a:prstGeom prst="rect">
            <a:avLst/>
          </a:prstGeom>
          <a:ln w="0">
            <a:noFill/>
          </a:ln>
        </p:spPr>
      </p:pic>
      <p:sp>
        <p:nvSpPr>
          <p:cNvPr id="914" name="TextBox 6"/>
          <p:cNvSpPr/>
          <p:nvPr/>
        </p:nvSpPr>
        <p:spPr>
          <a:xfrm>
            <a:off x="1066680" y="274320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OES THIS HAV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ER CREDIT 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657600" y="2895480"/>
            <a:ext cx="1030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Outstanding Deb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total dollar amount of debt currently hel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cludes balances on all reported account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en a high percentage of debt is used, then it negatively impacts a scor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18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Outstanding Deb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5168520" y="1676520"/>
            <a:ext cx="3809880" cy="45720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otal deb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ound in recent balance colum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37,325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vailable credi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ound in credit limit colum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37,546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37,546-$37,325 = $221   she is using almost all her available credi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1" name="TextBox 4"/>
          <p:cNvSpPr/>
          <p:nvPr/>
        </p:nvSpPr>
        <p:spPr>
          <a:xfrm>
            <a:off x="1066680" y="167652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OW MUCH TOTAL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EBT DOES IS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923" name="TextBox 6"/>
          <p:cNvSpPr/>
          <p:nvPr/>
        </p:nvSpPr>
        <p:spPr>
          <a:xfrm>
            <a:off x="1066680" y="312408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OW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VAILABLE CRED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ABELLA U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787920" y="3276720"/>
            <a:ext cx="936360" cy="761760"/>
          </a:xfrm>
          <a:prstGeom prst="rect">
            <a:avLst/>
          </a:prstGeom>
          <a:ln w="0">
            <a:noFill/>
          </a:ln>
        </p:spPr>
      </p:pic>
      <p:sp>
        <p:nvSpPr>
          <p:cNvPr id="925" name="TextBox 8"/>
          <p:cNvSpPr/>
          <p:nvPr/>
        </p:nvSpPr>
        <p:spPr>
          <a:xfrm>
            <a:off x="1066680" y="457200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MPAC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THIS HAVE ON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REDIT 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Picture 4" descr="C:\Documents and Settings\Nicole Chinadle\Local Settings\Temporary Internet Files\Content.IE5\249DHPEV\MCj02958730000[1].wmf"/>
          <p:cNvPicPr/>
          <p:nvPr/>
        </p:nvPicPr>
        <p:blipFill>
          <a:blip r:embed="rId3"/>
          <a:stretch/>
        </p:blipFill>
        <p:spPr>
          <a:xfrm>
            <a:off x="3787920" y="472428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Length  of Credi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gth of time a consumer has held credit account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cludes how long ago credit accounts were establish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 longer credit history will generally increase a credit scor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29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Length of Credi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168520" y="1676520"/>
            <a:ext cx="3809880" cy="41148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histo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ound in date opened colum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08/05 U.S. Dept. of Educ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ee Money Credit Car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core will improv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2" name="TextBox 4"/>
          <p:cNvSpPr/>
          <p:nvPr/>
        </p:nvSpPr>
        <p:spPr>
          <a:xfrm>
            <a:off x="1066680" y="167652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EN DID IS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FIRST BEGIN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REDIT HIST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934" name="TextBox 6"/>
          <p:cNvSpPr/>
          <p:nvPr/>
        </p:nvSpPr>
        <p:spPr>
          <a:xfrm>
            <a:off x="1066680" y="3048120"/>
            <a:ext cx="3733920" cy="265428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F ISABELLA KEEPS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FREE MONEY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ARD OPE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NOTHER 10 YEARS AND P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OFF THE BALANCE, WHAT WILL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886200" y="3200400"/>
            <a:ext cx="8380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The Credit Proces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24" name="Content Placeholder 4" descr=""/>
          <p:cNvPicPr/>
          <p:nvPr/>
        </p:nvPicPr>
        <p:blipFill>
          <a:blip r:embed="rId1"/>
          <a:stretch/>
        </p:blipFill>
        <p:spPr>
          <a:xfrm>
            <a:off x="1152360" y="2359080"/>
            <a:ext cx="8015400" cy="394956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"/>
          <p:cNvSpPr/>
          <p:nvPr/>
        </p:nvSpPr>
        <p:spPr>
          <a:xfrm>
            <a:off x="1143000" y="1523880"/>
            <a:ext cx="75438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Credit</a:t>
            </a: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 – when goods, services, and/or money are received in exchange for a promise to pay back a definite sum of money at a future da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sabella’s 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206360" y="3809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your analysis of her situation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es she need your help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28" name="Picture 3" descr="C:\Documents and Settings\Nicole Chinadle\Local Settings\Temporary Internet Files\Content.IE5\ZCAAAMQ4\MPj04395170000[1].jpg"/>
          <p:cNvPicPr/>
          <p:nvPr/>
        </p:nvPicPr>
        <p:blipFill>
          <a:blip r:embed="rId1"/>
          <a:stretch/>
        </p:blipFill>
        <p:spPr>
          <a:xfrm>
            <a:off x="6095880" y="1752480"/>
            <a:ext cx="2814840" cy="16639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7391520" y="4495680"/>
            <a:ext cx="1523880" cy="1239840"/>
          </a:xfrm>
          <a:prstGeom prst="rect">
            <a:avLst/>
          </a:prstGeom>
          <a:ln w="0">
            <a:noFill/>
          </a:ln>
        </p:spPr>
      </p:pic>
      <p:sp>
        <p:nvSpPr>
          <p:cNvPr id="830" name="TextBox 13"/>
          <p:cNvSpPr/>
          <p:nvPr/>
        </p:nvSpPr>
        <p:spPr>
          <a:xfrm>
            <a:off x="1447920" y="1787400"/>
            <a:ext cx="403848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N SMALL GROU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aur"/>
              </a:rPr>
              <a:t>READ ISABELLA’S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History Reporting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32" name="Content Placeholder 3" descr=""/>
          <p:cNvPicPr/>
          <p:nvPr/>
        </p:nvPicPr>
        <p:blipFill>
          <a:blip r:embed="rId1"/>
          <a:stretch/>
        </p:blipFill>
        <p:spPr>
          <a:xfrm>
            <a:off x="2011320" y="1865160"/>
            <a:ext cx="7016760" cy="4230720"/>
          </a:xfrm>
          <a:prstGeom prst="rect">
            <a:avLst/>
          </a:prstGeom>
          <a:ln w="0">
            <a:noFill/>
          </a:ln>
        </p:spPr>
      </p:pic>
      <p:grpSp>
        <p:nvGrpSpPr>
          <p:cNvPr id="833" name="TextBox 4"/>
          <p:cNvGrpSpPr/>
          <p:nvPr/>
        </p:nvGrpSpPr>
        <p:grpSpPr>
          <a:xfrm>
            <a:off x="-146160" y="3297240"/>
            <a:ext cx="2340000" cy="1039320"/>
            <a:chOff x="-146160" y="3297240"/>
            <a:chExt cx="2340000" cy="1039320"/>
          </a:xfrm>
        </p:grpSpPr>
        <p:pic>
          <p:nvPicPr>
            <p:cNvPr id="834" name="TextBox 4" descr=""/>
            <p:cNvPicPr/>
            <p:nvPr/>
          </p:nvPicPr>
          <p:blipFill>
            <a:blip r:embed="rId2"/>
            <a:stretch/>
          </p:blipFill>
          <p:spPr>
            <a:xfrm>
              <a:off x="-146160" y="3297240"/>
              <a:ext cx="2340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0" y="3389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aur"/>
                </a:rPr>
                <a:t>What they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TextBox 5"/>
          <p:cNvGrpSpPr/>
          <p:nvPr/>
        </p:nvGrpSpPr>
        <p:grpSpPr>
          <a:xfrm>
            <a:off x="-60480" y="4591080"/>
            <a:ext cx="2175120" cy="1467360"/>
            <a:chOff x="-60480" y="4591080"/>
            <a:chExt cx="2175120" cy="1467360"/>
          </a:xfrm>
        </p:grpSpPr>
        <p:pic>
          <p:nvPicPr>
            <p:cNvPr id="837" name="TextBox 5" descr=""/>
            <p:cNvPicPr/>
            <p:nvPr/>
          </p:nvPicPr>
          <p:blipFill>
            <a:blip r:embed="rId3"/>
            <a:stretch/>
          </p:blipFill>
          <p:spPr>
            <a:xfrm>
              <a:off x="-60480" y="4591080"/>
              <a:ext cx="21751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0" y="4684680"/>
              <a:ext cx="2057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aur"/>
                </a:rPr>
                <a:t>Additional In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Right Arrow 6"/>
          <p:cNvGrpSpPr/>
          <p:nvPr/>
        </p:nvGrpSpPr>
        <p:grpSpPr>
          <a:xfrm>
            <a:off x="2225520" y="5803920"/>
            <a:ext cx="6747120" cy="596880"/>
            <a:chOff x="2225520" y="5803920"/>
            <a:chExt cx="6747120" cy="596880"/>
          </a:xfrm>
        </p:grpSpPr>
        <p:pic>
          <p:nvPicPr>
            <p:cNvPr id="840" name="Right Arrow 6" descr=""/>
            <p:cNvPicPr/>
            <p:nvPr/>
          </p:nvPicPr>
          <p:blipFill>
            <a:blip r:embed="rId4"/>
            <a:stretch/>
          </p:blipFill>
          <p:spPr>
            <a:xfrm>
              <a:off x="2225520" y="5803920"/>
              <a:ext cx="67471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2286000" y="5961240"/>
              <a:ext cx="6508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Reporting Agenci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20636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cquire information from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44" name="Diagram 3" descr=""/>
          <p:cNvPicPr/>
          <p:nvPr/>
        </p:nvPicPr>
        <p:blipFill>
          <a:blip r:embed="rId1"/>
          <a:stretch/>
        </p:blipFill>
        <p:spPr>
          <a:xfrm>
            <a:off x="1365120" y="2266920"/>
            <a:ext cx="71024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120636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formation can be divided into 4 categories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ersonal Informat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ccounts Summa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ublic record items related to credi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Inquirie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6" name="Title 3"/>
          <p:cNvSpPr/>
          <p:nvPr/>
        </p:nvSpPr>
        <p:spPr>
          <a:xfrm>
            <a:off x="914400" y="2746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nformation in a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1295280" y="4876920"/>
            <a:ext cx="7467840" cy="155700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Lender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aur"/>
              </a:rPr>
              <a:t>may or may not</a:t>
            </a: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 report information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ll three credit reporting ag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n individual’s information may be different in each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ersonal Information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Personal Inform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37720" y="2285640"/>
            <a:ext cx="3659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ame and alias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urrent and past address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ocial security numb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ate of birt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mployment history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88000" y="1645920"/>
            <a:ext cx="411480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Personal Information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788000" y="2285640"/>
            <a:ext cx="4114800" cy="380988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Name – Isabella G. Langley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Addresses – 101 Hopeful Ave. &amp; 695 Parent Street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Date of birth – 05/04/86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Telephone numbers –           555-354-2368 &amp; 555-198-2358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Employers – Lucky’s Restaurant &amp; Jane’s Daycare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3" name="TextBox 14"/>
          <p:cNvSpPr/>
          <p:nvPr/>
        </p:nvSpPr>
        <p:spPr>
          <a:xfrm>
            <a:off x="1066680" y="4952880"/>
            <a:ext cx="35053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FIND ISABELL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ERS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200400" y="5105520"/>
            <a:ext cx="1217520" cy="990360"/>
          </a:xfrm>
          <a:prstGeom prst="rect">
            <a:avLst/>
          </a:prstGeom>
          <a:ln w="0">
            <a:noFill/>
          </a:ln>
        </p:spPr>
      </p:pic>
      <p:sp>
        <p:nvSpPr>
          <p:cNvPr id="855" name="Straight Connector 17"/>
          <p:cNvSpPr/>
          <p:nvPr/>
        </p:nvSpPr>
        <p:spPr>
          <a:xfrm>
            <a:off x="5029200" y="2286000"/>
            <a:ext cx="36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ccounts Summary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90360" y="1523880"/>
            <a:ext cx="3506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ypes of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ate the account was opene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limit or loan amoun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ccount balanc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ayment history, including missed or late payme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2520" y="1218960"/>
            <a:ext cx="403884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952520" y="1828440"/>
            <a:ext cx="4038840" cy="42973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am’s Electronic Worl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ity of Anywher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inancial Institution School Loa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hop ‘Til You Drop Store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ve to Read Store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he Free Money Credit Card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counts Summa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61" name="TextBox 8"/>
          <p:cNvSpPr/>
          <p:nvPr/>
        </p:nvSpPr>
        <p:spPr>
          <a:xfrm>
            <a:off x="1066680" y="4876920"/>
            <a:ext cx="3505320" cy="13136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WHAT 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DOES ISAB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HAVE ACCOU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WI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278160" y="5257800"/>
            <a:ext cx="1217520" cy="990720"/>
          </a:xfrm>
          <a:prstGeom prst="rect">
            <a:avLst/>
          </a:prstGeom>
          <a:ln w="0">
            <a:noFill/>
          </a:ln>
        </p:spPr>
      </p:pic>
      <p:sp>
        <p:nvSpPr>
          <p:cNvPr id="863" name="Straight Connector 12"/>
          <p:cNvSpPr/>
          <p:nvPr/>
        </p:nvSpPr>
        <p:spPr>
          <a:xfrm>
            <a:off x="4952880" y="1828800"/>
            <a:ext cx="4038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1:30:39Z</dcterms:created>
  <dc:creator>itcmaint</dc:creator>
  <dc:description/>
  <dc:language>en-US</dc:language>
  <cp:lastModifiedBy>NHBOE</cp:lastModifiedBy>
  <dcterms:modified xsi:type="dcterms:W3CDTF">2012-03-09T12:39:22Z</dcterms:modified>
  <cp:revision>1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11033</vt:lpwstr>
  </property>
</Properties>
</file>